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CB97-F870-44D8-9DAF-4E9C51FB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1153-A444-462F-BCC2-C122880B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DE9F-70F4-432D-BB33-64AC275C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C64F-56CE-4090-AECB-823E6F82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8804-1E06-4BE0-B4C1-6E6CD43A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B122-25ED-4DBD-AD36-69D5164E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1B13-3D52-4F6A-9DE5-11A4F580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CB6D-38FD-4B20-8CEB-9726F5DF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9485-E7E9-4621-8B09-144E068C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87A8-9969-4F89-A9DA-C964284A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603E-37AB-4D27-9419-6C461CEE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4672-F0E9-4138-9398-EC7CE60E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C6BD-E079-4A32-A81B-D756BB930D1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557360"/>
            <a:ext cx="2808360" cy="47512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6a75"/>
              </a:gs>
              <a:gs pos="50000">
                <a:srgbClr val="ffe7ff"/>
              </a:gs>
              <a:gs pos="100000">
                <a:srgbClr val="756a75"/>
              </a:gs>
            </a:gsLst>
            <a:lin ang="5400000"/>
          </a:gradFill>
          <a:ln w="9360">
            <a:solidFill>
              <a:srgbClr val="5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3348000" y="1484280"/>
            <a:ext cx="2664000" cy="48243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6a75"/>
              </a:gs>
              <a:gs pos="50000">
                <a:srgbClr val="ffe7ff"/>
              </a:gs>
              <a:gs pos="100000">
                <a:srgbClr val="756a75"/>
              </a:gs>
            </a:gsLst>
            <a:lin ang="5400000"/>
          </a:gradFill>
          <a:ln w="9360">
            <a:solidFill>
              <a:srgbClr val="5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6372360" y="1484280"/>
            <a:ext cx="2628720" cy="48243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6a75"/>
              </a:gs>
              <a:gs pos="50000">
                <a:srgbClr val="ffe7ff"/>
              </a:gs>
              <a:gs pos="100000">
                <a:srgbClr val="756a75"/>
              </a:gs>
            </a:gsLst>
            <a:lin ang="5400000"/>
          </a:gradFill>
          <a:ln w="9360">
            <a:solidFill>
              <a:srgbClr val="5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88080" y="198900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MD개성체"/>
                <a:ea typeface="MD개성체"/>
              </a:rPr>
              <a:t>Beginn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719520" y="19890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MD개성체"/>
                <a:ea typeface="MD개성체"/>
              </a:rPr>
              <a:t>Middl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7164360" y="1989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MD개성체"/>
                <a:ea typeface="MD개성체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0"/>
            <a:ext cx="73454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MD개성체"/>
                <a:ea typeface="MD개성체"/>
              </a:rPr>
              <a:t>The Old Alligato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MD개성체"/>
                <a:ea typeface="MD개성체"/>
              </a:rPr>
              <a:t>What happens in the story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MD개성체"/>
                <a:ea typeface="MD개성체"/>
              </a:rPr>
              <a:t>Write or draw about the beginning, middle and end of the story</a:t>
            </a:r>
            <a:r>
              <a:rPr b="0" lang="en-US" sz="1800" spc="-1" strike="noStrike">
                <a:solidFill>
                  <a:srgbClr val="000000"/>
                </a:solidFill>
                <a:latin typeface="MD개성체"/>
                <a:ea typeface="MD개성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7300440" y="6643800"/>
            <a:ext cx="183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99"/>
                </a:solidFill>
                <a:latin typeface="굴림"/>
              </a:rPr>
              <a:t>OTH-goawaymrwolf@jybooks.c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5:22:11Z</dcterms:created>
  <dc:creator>mj</dc:creator>
  <dc:description/>
  <dc:language>en-US</dc:language>
  <cp:lastModifiedBy>mj</cp:lastModifiedBy>
  <dcterms:modified xsi:type="dcterms:W3CDTF">2008-02-21T14:57:04Z</dcterms:modified>
  <cp:revision>6</cp:revision>
  <dc:subject/>
  <dc:title>슬라이드 1</dc:title>
</cp:coreProperties>
</file>