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BF6-025B-44F8-ACEC-78691007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F3C-70CF-4782-9A9C-29310042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67B-C364-4F3F-9B9C-0551508D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9BD-F15B-4373-B5CB-5F18B980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D46-4CBE-4709-B4F9-FC5197C4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420-4FA5-4559-B63E-CE2D84B7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EF2-0A6F-4BEB-922B-4D00825B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4FE-910A-45D5-84DD-82501A63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087-E98D-4A95-B831-040594C3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D0F-18F0-4383-86D7-C0BB0080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A94-C510-42B1-B9FD-3512BFF4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809-5768-4AB0-87F0-9CF6E889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92D1-56EF-4EA5-9665-CD87B0E76B4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948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159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Make a New En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Draw a picture and write your new stor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268280"/>
            <a:ext cx="417672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341360"/>
            <a:ext cx="369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Who’s that knocking at our little front door?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5120" y="5516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Anybody home?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1366920" cy="113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6:40:03Z</dcterms:created>
  <dc:creator>윤홍원</dc:creator>
  <dc:description/>
  <dc:language>en-US</dc:language>
  <cp:lastModifiedBy>윤홍원</cp:lastModifiedBy>
  <dcterms:modified xsi:type="dcterms:W3CDTF">2008-02-22T12:22:43Z</dcterms:modified>
  <cp:revision>5</cp:revision>
  <dc:subject/>
  <dc:title>슬라이드 1</dc:title>
</cp:coreProperties>
</file>