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E4C1-6391-411C-AA93-D6036185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8635-42D8-4826-B475-CFC3C40F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E0B-8B1B-46AA-847B-6D8DCE5B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DE1-E726-43BE-B872-36DD8577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350-DF58-4AAF-A97F-710FE664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50A-11C4-4624-9426-0A8A42C3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18E-410B-41FB-B557-CEA6A2E5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7E2-3283-4053-B4B7-8C538B65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76B-B35D-402F-98FB-9FEBB5B2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0BD-B8E2-442A-A829-DAE6C910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0EB3-33DE-49CA-97FB-0E2A4AEA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25C-1274-45F6-AFF2-931038B2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0A3C-2C5D-4101-A8D9-4DA04564590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0120" y="18900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MD이솝체"/>
                <a:ea typeface="MD이솝체"/>
              </a:rPr>
              <a:t>/g/ at the Beginn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936720" cy="928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67640" y="155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667640" y="4076640"/>
            <a:ext cx="915840" cy="5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148360" y="3860640"/>
            <a:ext cx="1127160" cy="10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9640" y="393372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24000" y="170028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1440" y="836640"/>
            <a:ext cx="63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If the picture starts with /g/, circle and write </a:t>
            </a:r>
            <a:r>
              <a:rPr b="1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g</a:t>
            </a: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 on the lin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5229360"/>
            <a:ext cx="13888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492280"/>
            <a:ext cx="13888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745164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745164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003640" y="1700280"/>
            <a:ext cx="1140120" cy="723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2771640" y="4005360"/>
            <a:ext cx="1079640" cy="912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33440" y="6491160"/>
            <a:ext cx="51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(gate, glue, zebra, goat, goose, kite, girl, gu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66690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1484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35:33Z</dcterms:created>
  <dc:creator>mj</dc:creator>
  <dc:description/>
  <dc:language>en-US</dc:language>
  <cp:lastModifiedBy>mj</cp:lastModifiedBy>
  <dcterms:modified xsi:type="dcterms:W3CDTF">2008-02-21T15:40:01Z</dcterms:modified>
  <cp:revision>9</cp:revision>
  <dc:subject/>
  <dc:title>슬라이드 1</dc:title>
</cp:coreProperties>
</file>