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25D-4976-40E2-A3E3-D8EBC8DE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D62-BC0F-4F49-AC74-13B2E2C1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29B-689A-48EA-ACBA-5896E42C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517-8CAC-421B-9AC0-7D36A1D9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B40-E2C5-4265-A6BC-62167DD5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EEA-449B-4CD5-AF06-F1D180F8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238-BFB7-467A-AFF3-B0BD5FDB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7BA-9655-4FAE-BD7B-D8A0992E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BEE-B44D-489B-841D-D95A0368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0ED-2A4A-4870-8F8F-C600A1D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10E-47C3-4BA1-A171-CE495141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BEF-6D64-4E22-938F-3D225116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811C-A417-40DD-A83D-C75698F19FE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486900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95008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8972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486900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2936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22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22936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5229360" y="270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229360" y="234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29360" y="197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22936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229360" y="1258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637000" y="-23760"/>
            <a:ext cx="15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</a:rPr>
              <a:t>Puzzle Ti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59280" y="539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Use the words in the box to finish this crossword puzzl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50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500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06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06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78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14972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450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86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34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70828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06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50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14972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78936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70828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14972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04640" y="1258920"/>
            <a:ext cx="1511640" cy="3960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28840" y="1476360"/>
            <a:ext cx="1325160" cy="375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ur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riendl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ar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ee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ar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pefu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65360" y="1476360"/>
            <a:ext cx="1150920" cy="112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31160" y="90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151880" y="161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431160" y="270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762640" y="3425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991160" y="414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3515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240" y="5457960"/>
            <a:ext cx="5934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Tips</a:t>
            </a: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1. kind: behaving as a fri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e1f00"/>
              </a:buClr>
              <a:buFont typeface="MD이솝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2. made of, covered with, or like fu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3. low, rough, or harsh in sou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4. feeling or showing hop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5. very pleasing, delight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6. bright and cheer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14440" y="8929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3:43:33Z</dcterms:created>
  <dc:creator>mj</dc:creator>
  <dc:description/>
  <dc:language>en-US</dc:language>
  <cp:lastModifiedBy>mj</cp:lastModifiedBy>
  <dcterms:modified xsi:type="dcterms:W3CDTF">2008-02-21T14:57:46Z</dcterms:modified>
  <cp:revision>12</cp:revision>
  <dc:subject/>
  <dc:title>슬라이드 1</dc:title>
</cp:coreProperties>
</file>