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5F8-EFEB-4A64-ADA2-44CE5734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072-AF2E-4951-9F40-2F3877F5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DEF-27ED-4A07-B1AF-974662C7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5BF-60B9-4AAC-9229-DBA0E753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EE5-DE28-4A85-BCDA-CD2D6F5A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65A-1A11-47E5-A046-402371F4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E46-78C2-457B-AC48-DE6AC68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598-4B75-43E2-8E1E-F009AE94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34B-22B1-43EF-B5E8-507C68C9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0F9-B38D-4B48-BCC6-14706BC7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7FC-A66B-40B1-BAFA-6F60979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B4C-A38B-4A6C-A8BB-AE8FF40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8188-E111-459D-942E-C65C5A70ABB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360" y="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2800"/>
                </a:solidFill>
                <a:latin typeface="MD이솝체"/>
                <a:ea typeface="MD이솝체"/>
              </a:rPr>
              <a:t>Wolf That I Kn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1413000" cy="138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0364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76720" y="907920"/>
            <a:ext cx="252072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781360"/>
            <a:ext cx="1440" cy="431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6400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132000" y="4292640"/>
            <a:ext cx="64800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292640"/>
            <a:ext cx="71928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6438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5028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360" y="476280"/>
            <a:ext cx="49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2800"/>
                </a:solidFill>
                <a:latin typeface="MD이솝체"/>
                <a:ea typeface="MD이솝체"/>
              </a:rPr>
              <a:t>Write or draw about the wolf that you know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0:20Z</dcterms:created>
  <dc:creator>mj</dc:creator>
  <dc:description/>
  <dc:language>en-US</dc:language>
  <cp:lastModifiedBy>mj</cp:lastModifiedBy>
  <dcterms:modified xsi:type="dcterms:W3CDTF">2008-02-21T15:28:05Z</dcterms:modified>
  <cp:revision>8</cp:revision>
  <dc:subject/>
  <dc:title>슬라이드 1</dc:title>
</cp:coreProperties>
</file>