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6F85-0F32-4763-B559-928377DF8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C610-3770-4913-BE5D-7D3ED29F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C323-BD7E-48DD-B7D7-7670AC8C1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0F06-19C8-40AC-ABCA-B3F23ADF1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9C38-2F5F-4445-AE0C-9C654ABB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A275-F4E6-45EC-AE47-9239E8FE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0C15-5B6C-4E16-B871-07BACEB8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0A4D-B1B4-4A5F-BFB6-16C8A971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2055-FF8A-4A7E-95C3-F53133D3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E260-BBB6-4159-8B00-43A4684E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6334-6B8F-43A6-BDC3-7480D0B8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2C1D-EF8C-4483-9D10-649B0178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C7B9-5E18-4578-94DF-5861982FCD7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19480" y="266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11592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Make a New End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Draw a picture and write your new story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4716360" y="1268280"/>
            <a:ext cx="4176720" cy="525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_____________________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_____________________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_______________________________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1341360"/>
            <a:ext cx="3691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Knock!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Knock!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Knock!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Who’s that knocking at our little front door?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55120" y="5516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Anybody home?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47640" y="3573360"/>
            <a:ext cx="1366920" cy="1130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164360" y="6669000"/>
            <a:ext cx="19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OTH-goawaymrwolf@jybooks.com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06:40:03Z</dcterms:created>
  <dc:creator>윤홍원</dc:creator>
  <dc:description/>
  <dc:language>en-US</dc:language>
  <cp:lastModifiedBy>윤홍원</cp:lastModifiedBy>
  <dcterms:modified xsi:type="dcterms:W3CDTF">2008-02-22T12:22:43Z</dcterms:modified>
  <cp:revision>5</cp:revision>
  <dc:subject/>
  <dc:title>슬라이드 1</dc:title>
</cp:coreProperties>
</file>