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7E3-E4F9-47FE-8E1B-CB120E18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33E-E02D-4CBF-88CC-4CEB9834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724-1A9B-4741-BD3D-886A6855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B08-611E-4864-B607-F2CD28C3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F7A-2879-4798-BA3F-6F90A958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48E-C753-4D51-AEAD-F65A37B4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BC3-15CF-42E0-B829-D5D300C8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55C-3818-440F-8F50-80AC8B00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679-1213-431E-ACAD-827B2040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606B-57F5-4E8F-9E99-D7508988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C53-416E-4F15-A9C0-0FE55AAA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060E-EAD5-4480-939D-B4FC2ADA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959C-6152-424F-9DA4-A9B051BA2B7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936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486900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450864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95008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58972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486900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29360" y="378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22936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5229360" y="30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5229360" y="270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229360" y="234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5229360" y="197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22936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5229360" y="12589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637000" y="-23760"/>
            <a:ext cx="158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굴림"/>
              </a:rPr>
              <a:t>Puzzle Tim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59280" y="539640"/>
            <a:ext cx="62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"/>
              </a:rPr>
              <a:t>Use the words in the box to finish this crossword puzzl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450864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45007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06864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378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0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06864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78936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414972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450864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86900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234936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70828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306864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450864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414972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78936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70828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414972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404640" y="1258920"/>
            <a:ext cx="1511640" cy="3960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28840" y="1476360"/>
            <a:ext cx="1325160" cy="375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furr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friendl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char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cheer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hoar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hopefu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65360" y="1476360"/>
            <a:ext cx="1150920" cy="1127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231160" y="900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4151880" y="161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431160" y="2700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2762640" y="3425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991160" y="4140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23515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240" y="5457960"/>
            <a:ext cx="5934240" cy="34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Tips</a:t>
            </a: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1. kind: behaving as a frie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3e1f00"/>
              </a:buClr>
              <a:buFont typeface="MD이솝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2. made of, covered with, or like fu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3. low, rough, or harsh in sou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4. feeling or showing hop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5. very pleasing, delightfu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6. bright and cheerfu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14440" y="8929800"/>
            <a:ext cx="183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3:43:33Z</dcterms:created>
  <dc:creator>mj</dc:creator>
  <dc:description/>
  <dc:language>en-US</dc:language>
  <cp:lastModifiedBy>mj</cp:lastModifiedBy>
  <dcterms:modified xsi:type="dcterms:W3CDTF">2008-02-21T14:57:46Z</dcterms:modified>
  <cp:revision>12</cp:revision>
  <dc:subject/>
  <dc:title>슬라이드 1</dc:title>
</cp:coreProperties>
</file>