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CE1-7EAC-46D8-A065-82ED784D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2EF-5ACF-43EB-A0F2-8536574C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3DA-092C-4EA2-9309-ECB544BA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D11-1FBC-4C0C-ABEA-7C993C9A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24B6-33DE-461E-A85C-799DE011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11F-2787-4031-8C31-EB1C8008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0FF9-99C0-4228-8D76-4BA7EDF9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CE4-44F6-42EB-85D4-A7588900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B6B-51B2-4F33-97B2-CED3C329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3FB-DF71-4DF8-BE10-21DFF521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017-2B5D-48CB-9311-83E85238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35B-F56A-43DA-B877-652ECB6B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5741-BA79-41DC-9506-C7A6247A7D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7360" y="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2800"/>
                </a:solidFill>
                <a:latin typeface="MD이솝체"/>
                <a:ea typeface="MD이솝체"/>
              </a:rPr>
              <a:t>Wolf That I Kn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51280" y="3284640"/>
            <a:ext cx="1413000" cy="1382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2205000"/>
            <a:ext cx="2521080" cy="178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19280" y="4581360"/>
            <a:ext cx="2521080" cy="1787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5280" y="2205000"/>
            <a:ext cx="2521080" cy="178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003640" y="4581360"/>
            <a:ext cx="2521080" cy="1787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276720" y="907920"/>
            <a:ext cx="2520720" cy="1787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59280" y="3357720"/>
            <a:ext cx="720720" cy="215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781360"/>
            <a:ext cx="1440" cy="431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364000" y="3357720"/>
            <a:ext cx="720720" cy="215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132000" y="4292640"/>
            <a:ext cx="648000" cy="21600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4292640"/>
            <a:ext cx="719280" cy="21600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6438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502800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78360" y="476280"/>
            <a:ext cx="49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02800"/>
                </a:solidFill>
                <a:latin typeface="MD이솝체"/>
                <a:ea typeface="MD이솝체"/>
              </a:rPr>
              <a:t>Write or draw about the wolf that you know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5:00:20Z</dcterms:created>
  <dc:creator>mj</dc:creator>
  <dc:description/>
  <dc:language>en-US</dc:language>
  <cp:lastModifiedBy>mj</cp:lastModifiedBy>
  <dcterms:modified xsi:type="dcterms:W3CDTF">2008-02-21T15:28:05Z</dcterms:modified>
  <cp:revision>8</cp:revision>
  <dc:subject/>
  <dc:title>슬라이드 1</dc:title>
</cp:coreProperties>
</file>