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7B0-6768-4EB5-A6A2-7117A6AF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9CB-2385-40AA-84ED-7E9162EA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7A8-3296-4E43-8D26-733C5ACB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A4E-7C23-4EF4-B93F-026E8DAC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C45-758A-401A-AF38-074B7F80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C06-4DC3-4D21-A277-2C535575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71A-65DC-4697-9E49-C0A65E93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21B-5BBD-4DC6-99C0-786F3560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876-E92F-42A6-9F83-45D50EF5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2EF1-F089-4CF5-8A40-78A1A652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004-4885-4315-AB4D-01FE619C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044-AD29-4E6D-BFD7-6006382C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B926-083B-4011-A3FF-AD8671E1A40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557360"/>
            <a:ext cx="2808360" cy="47512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3348000" y="1484280"/>
            <a:ext cx="2664000" cy="48243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6372360" y="1484280"/>
            <a:ext cx="2628720" cy="48243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88080" y="198900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719520" y="1989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7164360" y="198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0"/>
            <a:ext cx="7345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MD개성체"/>
                <a:ea typeface="MD개성체"/>
              </a:rPr>
              <a:t>The Old Alligato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개성체"/>
                <a:ea typeface="MD개성체"/>
              </a:rPr>
              <a:t>What happens in the story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개성체"/>
                <a:ea typeface="MD개성체"/>
              </a:rPr>
              <a:t>Write or draw about the beginning, middle and end of the story</a:t>
            </a:r>
            <a:r>
              <a:rPr b="0" lang="en-US" sz="1800" spc="-1" strike="noStrike">
                <a:solidFill>
                  <a:srgbClr val="000000"/>
                </a:solidFill>
                <a:latin typeface="MD개성체"/>
                <a:ea typeface="MD개성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7300440" y="6643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5:22:11Z</dcterms:created>
  <dc:creator>mj</dc:creator>
  <dc:description/>
  <dc:language>en-US</dc:language>
  <cp:lastModifiedBy>mj</cp:lastModifiedBy>
  <dcterms:modified xsi:type="dcterms:W3CDTF">2008-02-21T14:57:04Z</dcterms:modified>
  <cp:revision>6</cp:revision>
  <dc:subject/>
  <dc:title>슬라이드 1</dc:title>
</cp:coreProperties>
</file>