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3A2-0BF9-419B-B204-3DB7D8CD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E67-6FC7-4F7E-A996-F0324129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1A5-02E2-4490-97AF-A0D65384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70D-500E-4B36-BA53-89AD55B9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40A-3AE0-440C-B11A-328C3E3B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C18-4DAE-440A-8BC1-69F4D59E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B17-0A1A-4BA0-85DF-AD4F8BE3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235-0FD0-4064-8F8C-CBC7F4DC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E8A-4C9E-48F1-B2C7-B9EB6013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B97-B5BC-4DDD-B3B8-5C5A3373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501-D00B-4C79-AB6F-D1663F33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3D8-3484-45EF-81C4-0D045F23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ABED-5E0F-4D95-A3BD-EF3E763AB8A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7360" y="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2800"/>
                </a:solidFill>
                <a:latin typeface="MD이솝체"/>
                <a:ea typeface="MD이솝체"/>
              </a:rPr>
              <a:t>Wolf That I Kn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1413000" cy="138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1928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00364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76720" y="907920"/>
            <a:ext cx="2520720" cy="178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781360"/>
            <a:ext cx="1440" cy="431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6400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132000" y="4292640"/>
            <a:ext cx="64800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4292640"/>
            <a:ext cx="71928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6438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5028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360" y="476280"/>
            <a:ext cx="49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2800"/>
                </a:solidFill>
                <a:latin typeface="MD이솝체"/>
                <a:ea typeface="MD이솝체"/>
              </a:rPr>
              <a:t>Write or draw about the wolf that you know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00:20Z</dcterms:created>
  <dc:creator>mj</dc:creator>
  <dc:description/>
  <dc:language>en-US</dc:language>
  <cp:lastModifiedBy>mj</cp:lastModifiedBy>
  <dcterms:modified xsi:type="dcterms:W3CDTF">2008-02-21T15:28:05Z</dcterms:modified>
  <cp:revision>8</cp:revision>
  <dc:subject/>
  <dc:title>슬라이드 1</dc:title>
</cp:coreProperties>
</file>