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6EC-D581-4B74-B8B6-31D625A9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53C-C7DA-4AA8-BCEE-E9FE68F6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E90-D3CD-47A5-919D-A965BC6A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774-5916-4F25-AD10-A5341439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5B31-4CF0-4472-A0C2-7BFA2642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719-1ABE-41C8-ABF6-557C890E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2D8D-8160-49B2-B182-E2EAC537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727-11A7-4481-8466-3DF7284E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231-EB8A-4EA8-85A6-57A1B186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0B8-8950-4572-B44C-28C53226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924-4101-484A-93DF-4EB2B7D3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DEF-ED3D-4EE3-A051-1245B2C6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2226-9018-4F0F-9C65-72B9F37F9C4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948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1159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Make a New End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Draw a picture and write your new stor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268280"/>
            <a:ext cx="4176720" cy="525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_______________________________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341360"/>
            <a:ext cx="369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Knock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Who’s that knocking at our little front door?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55120" y="5516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Anybody home?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47640" y="3573360"/>
            <a:ext cx="1366920" cy="1130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164360" y="66690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06:40:03Z</dcterms:created>
  <dc:creator>윤홍원</dc:creator>
  <dc:description/>
  <dc:language>en-US</dc:language>
  <cp:lastModifiedBy>윤홍원</cp:lastModifiedBy>
  <dcterms:modified xsi:type="dcterms:W3CDTF">2008-02-22T12:22:43Z</dcterms:modified>
  <cp:revision>5</cp:revision>
  <dc:subject/>
  <dc:title>슬라이드 1</dc:title>
</cp:coreProperties>
</file>