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36FA-2ECE-47B2-A20C-5F3C9B7D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3D3A-D71E-4773-BC22-6B4F807B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C577-6654-4E20-923E-E1D29AB9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414F-F193-445E-BDC0-51C0F29D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17B2-E892-493D-9A48-05BD4DF9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49D1-38AF-4D94-8C43-66159487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4511-F248-4D3C-96E0-240A5C8D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28A3-474D-459C-9101-04716008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0A65-B1F4-4A8B-8A57-26D0F83D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0937-AF25-48F6-B30F-A7B00275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3C63-3752-41B7-9645-D1AC8E2D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F7B4-388D-4F8B-895F-49A5BDBA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EA36-A337-4D6E-8299-EA498B612C6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8936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486900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450864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95008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58972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486900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29360" y="3780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22936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5229360" y="30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5229360" y="270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229360" y="2340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5229360" y="197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22936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5229360" y="12589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637000" y="-23760"/>
            <a:ext cx="158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굴림"/>
              </a:rPr>
              <a:t>Puzzle Tim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359280" y="539640"/>
            <a:ext cx="622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"/>
              </a:rPr>
              <a:t>Use the words in the box to finish this crossword puzzl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450864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45007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06864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3780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0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06864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78936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414972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450864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86900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234936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70828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306864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450864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414972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78936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70828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414972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404640" y="1258920"/>
            <a:ext cx="1511640" cy="39607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28840" y="1476360"/>
            <a:ext cx="1325160" cy="375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furr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friendl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char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cheer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hoar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hopefu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65360" y="1476360"/>
            <a:ext cx="1150920" cy="1127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231160" y="900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4151880" y="161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3431160" y="2700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2762640" y="3425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991160" y="4140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235152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240" y="5457960"/>
            <a:ext cx="5934240" cy="34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Tips</a:t>
            </a: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…………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1. kind: behaving as a frie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3e1f00"/>
              </a:buClr>
              <a:buFont typeface="MD이솝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2. made of, covered with, or like fu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3. low, rough, or harsh in sou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4. feeling or showing hop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5. very pleasing, delightfu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6. bright and cheerfu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14440" y="8929800"/>
            <a:ext cx="183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99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3:43:33Z</dcterms:created>
  <dc:creator>mj</dc:creator>
  <dc:description/>
  <dc:language>en-US</dc:language>
  <cp:lastModifiedBy>mj</cp:lastModifiedBy>
  <dcterms:modified xsi:type="dcterms:W3CDTF">2008-02-21T14:57:46Z</dcterms:modified>
  <cp:revision>12</cp:revision>
  <dc:subject/>
  <dc:title>슬라이드 1</dc:title>
</cp:coreProperties>
</file>