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426-69C6-490D-8510-412F4D85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24A-11EE-4C81-BE13-ED9C9FDC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C1B-6D15-4EE0-8551-C3A68480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558-D85B-4235-A8C5-D780DDC5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F93-F154-4C64-8F7D-CD97811D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DB5-669D-44A8-A2ED-9CCFAD5D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EA2-C4DC-4187-A062-B2BC7793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0CD-C078-4722-A1C2-100647A4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290-F235-4A91-BCD6-95C016AD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D26-103C-4B7B-B261-A9935408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DB2-7EB6-40DB-A820-37D153BA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A1A-664B-4644-BBBD-6D10D896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A130-EE64-4CEE-8D09-724124E1EE7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486900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95008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8972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486900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2936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22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22936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5229360" y="270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229360" y="234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29360" y="197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22936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229360" y="1258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637000" y="-23760"/>
            <a:ext cx="15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</a:rPr>
              <a:t>Puzzle Ti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59280" y="539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Use the words in the box to finish this crossword puzzl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50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500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06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06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78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14972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450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86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34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70828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06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50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14972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78936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70828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14972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04640" y="1258920"/>
            <a:ext cx="1511640" cy="3960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28840" y="1476360"/>
            <a:ext cx="1325160" cy="375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ur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riendl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ar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ee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ar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pefu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65360" y="1476360"/>
            <a:ext cx="1150920" cy="112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31160" y="90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151880" y="161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431160" y="270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762640" y="3425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991160" y="414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3515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240" y="5457960"/>
            <a:ext cx="5934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Tips</a:t>
            </a: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1. kind: behaving as a fri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e1f00"/>
              </a:buClr>
              <a:buFont typeface="MD이솝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2. made of, covered with, or like fu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3. low, rough, or harsh in sou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4. feeling or showing hop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5. very pleasing, delight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6. bright and cheer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14440" y="8929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3:43:33Z</dcterms:created>
  <dc:creator>mj</dc:creator>
  <dc:description/>
  <dc:language>en-US</dc:language>
  <cp:lastModifiedBy>mj</cp:lastModifiedBy>
  <dcterms:modified xsi:type="dcterms:W3CDTF">2008-02-21T14:57:46Z</dcterms:modified>
  <cp:revision>12</cp:revision>
  <dc:subject/>
  <dc:title>슬라이드 1</dc:title>
</cp:coreProperties>
</file>