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636-BBA2-4752-9D8D-A1510CD0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25F-38D9-4751-94D4-C8124EC8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662-D6CF-4BBE-8D39-4F0D93E8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C09-28C5-42B4-B214-1AE86B08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CA3-D9B8-40ED-9D9A-4E5773EF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5F6-2259-4202-8423-D0F1D3D4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F9C-85A5-467D-B9DA-84D1BFEE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5A8-AAD9-4D33-BCC8-81E38164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DDC-4136-4339-A8A8-847EF1C8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CFC-002F-4AB4-88B3-813D998D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B9E-7309-49FE-8CA1-F24BE679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A88-0719-4159-A1A6-1EAF338B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27CC-FBFD-4DAB-9CEA-8E3CCC5CB63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948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159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Make a New En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Draw a picture and write your new stor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268280"/>
            <a:ext cx="417672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341360"/>
            <a:ext cx="369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Who’s that knocking at our little front door?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5120" y="5516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Anybody home?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1366920" cy="113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6:40:03Z</dcterms:created>
  <dc:creator>윤홍원</dc:creator>
  <dc:description/>
  <dc:language>en-US</dc:language>
  <cp:lastModifiedBy>윤홍원</cp:lastModifiedBy>
  <dcterms:modified xsi:type="dcterms:W3CDTF">2008-02-22T12:22:43Z</dcterms:modified>
  <cp:revision>5</cp:revision>
  <dc:subject/>
  <dc:title>슬라이드 1</dc:title>
</cp:coreProperties>
</file>