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165-5797-4126-8E79-09750864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531-9CED-4AB7-915F-B1FE3121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EDD-1452-45F2-AADB-4A45E534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50D-69AE-46C0-BFD9-18B2B8C3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F8B-1699-4773-80D6-3FF9D40B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2D0-845C-450E-9F52-D2CBC356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960-1928-4634-B723-943102A3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18D-83E4-4945-9654-40C2BF2C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7F5-0FF5-4B6B-BE6D-D362F981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280-976A-4355-9F22-41F68919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454-6F14-4D85-B7A1-E35708FA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9F4-E4AA-4DD7-B21F-5C2345AD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A47D-DAFF-4C75-ABD0-7123B14DC30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86900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95008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8972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86900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2936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22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22936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5229360" y="270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229360" y="234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29360" y="197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22936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229360" y="1258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637000" y="-2376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</a:rPr>
              <a:t>Puzzle Ti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59280" y="539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Use the words in the box to finish this crossword puzzl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50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500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06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06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78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14972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450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86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70828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06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50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14972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78936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70828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14972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04640" y="1258920"/>
            <a:ext cx="1511640" cy="3960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28840" y="1476360"/>
            <a:ext cx="1325160" cy="375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ur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riendl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ar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ee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ar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pefu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65360" y="1476360"/>
            <a:ext cx="1150920" cy="112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31160" y="90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151880" y="161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431160" y="270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762640" y="3425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991160" y="414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3515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240" y="5457960"/>
            <a:ext cx="5934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Tips</a:t>
            </a: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1. kind: behaving as a fri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e1f00"/>
              </a:buClr>
              <a:buFont typeface="MD이솝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2. made of, covered with, or like fu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3. low, rough, or harsh in sou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4. feeling or showing hop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5. very pleasing, delight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6. bright and cheer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14440" y="8929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3:43:33Z</dcterms:created>
  <dc:creator>mj</dc:creator>
  <dc:description/>
  <dc:language>en-US</dc:language>
  <cp:lastModifiedBy>mj</cp:lastModifiedBy>
  <dcterms:modified xsi:type="dcterms:W3CDTF">2008-02-21T14:57:46Z</dcterms:modified>
  <cp:revision>12</cp:revision>
  <dc:subject/>
  <dc:title>슬라이드 1</dc:title>
</cp:coreProperties>
</file>