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FDF-5571-421B-8CF9-4CFF14F9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4EB-DC45-4E41-8AAC-CCA7E25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F61-4FF0-4722-9EDF-C3DC8F6A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D18-E425-461D-ABD1-1E8811EF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C16-2EB9-4700-8BA9-A9037E6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26E-A81A-465E-82CC-26119C11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38E-479D-4F34-8E02-145044C8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32A-B488-4C54-8249-F74D6D5F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996-CEC8-40A0-8383-C6B6337C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4E0-E307-405F-A8A8-FB522CE5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70D-8279-4C08-819F-D04428A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3A4-201C-4A31-B55C-AA4A59D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A3F-20E2-4290-AA23-6D878A9F6F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94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159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Make a New En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raw a picture and write your new s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268280"/>
            <a:ext cx="417672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36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Who’s that knocking at our little front door?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5120" y="5516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Anybody home?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692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6:40:03Z</dcterms:created>
  <dc:creator>윤홍원</dc:creator>
  <dc:description/>
  <dc:language>en-US</dc:language>
  <cp:lastModifiedBy>윤홍원</cp:lastModifiedBy>
  <dcterms:modified xsi:type="dcterms:W3CDTF">2008-02-22T12:22:43Z</dcterms:modified>
  <cp:revision>5</cp:revision>
  <dc:subject/>
  <dc:title>슬라이드 1</dc:title>
</cp:coreProperties>
</file>