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730-C92A-4887-99F7-6721F7CD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26B-4382-4329-87D9-E61F8DE0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48A-B3BE-4E71-9CC0-1EBDC998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050-E4C1-4238-8570-B5DDE440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B23-CCAA-46E2-8158-85D487A1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095C-6EEB-42AA-B3F7-BCF6FCC7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C691-2FDE-45C3-8686-C64A2F52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E95-DA46-46FF-A72A-D83C4161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351-529D-4C32-BD0C-F8CADAB5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50E-2DDE-4641-8C35-9692201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112-DE5B-47EC-9F68-0D88041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0A8-D2F1-4D02-8C20-C92D9EA7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583C-5205-4896-A5F7-79FA64BBC5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7360" y="0"/>
            <a:ext cx="23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2800"/>
                </a:solidFill>
                <a:latin typeface="MD이솝체"/>
                <a:ea typeface="MD이솝체"/>
              </a:rPr>
              <a:t>Wolf That I Kn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1413000" cy="1382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1928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2205000"/>
            <a:ext cx="2521080" cy="178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03640" y="4581360"/>
            <a:ext cx="2521080" cy="1787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276720" y="907920"/>
            <a:ext cx="2520720" cy="1787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5928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2781360"/>
            <a:ext cx="1440" cy="431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364000" y="3357720"/>
            <a:ext cx="720720" cy="21564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132000" y="4292640"/>
            <a:ext cx="64800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292640"/>
            <a:ext cx="719280" cy="216000"/>
          </a:xfrm>
          <a:prstGeom prst="line">
            <a:avLst/>
          </a:prstGeom>
          <a:ln w="9360">
            <a:solidFill>
              <a:srgbClr val="502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7308720" y="6643800"/>
            <a:ext cx="19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502800"/>
                </a:solidFill>
                <a:latin typeface="굴림"/>
              </a:rPr>
              <a:t>OTH-goawaymrwolf@jybooks.com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378360" y="476280"/>
            <a:ext cx="49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02800"/>
                </a:solidFill>
                <a:latin typeface="MD이솝체"/>
                <a:ea typeface="MD이솝체"/>
              </a:rPr>
              <a:t>Write or draw about the wolf that you know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5:00:20Z</dcterms:created>
  <dc:creator>mj</dc:creator>
  <dc:description/>
  <dc:language>en-US</dc:language>
  <cp:lastModifiedBy>mj</cp:lastModifiedBy>
  <dcterms:modified xsi:type="dcterms:W3CDTF">2008-02-21T15:28:05Z</dcterms:modified>
  <cp:revision>8</cp:revision>
  <dc:subject/>
  <dc:title>슬라이드 1</dc:title>
</cp:coreProperties>
</file>