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A6A-1EE5-42F9-891F-3F5A2B3C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6DD-86A7-42BA-A747-B9D9BD8D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827-C964-4669-9039-732AAC8D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810-63BB-4242-8184-43F2706B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F08-C51C-4BDF-9535-9E35DCF9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78E-AAF5-4950-B1FB-44D60AA8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23D-76EB-4E60-9CB8-584ED3E0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1E4-BB64-48C2-983D-ED434CE6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A8E-7D20-4DC6-8752-4B3BB71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42C-23CA-4411-8FA5-E306706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F2E-EF6C-4F73-AD10-3A1A130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896-2690-4DF9-9F2B-D62DCCC3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3870-6809-41B1-AA29-57971ED650B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360" y="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800"/>
                </a:solidFill>
                <a:latin typeface="MD이솝체"/>
                <a:ea typeface="MD이솝체"/>
              </a:rPr>
              <a:t>Wolf That I Kn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1413000" cy="13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0364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76720" y="907920"/>
            <a:ext cx="252072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81360"/>
            <a:ext cx="1440" cy="431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6400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32000" y="4292640"/>
            <a:ext cx="64800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292640"/>
            <a:ext cx="71928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6438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5028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476280"/>
            <a:ext cx="49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2800"/>
                </a:solidFill>
                <a:latin typeface="MD이솝체"/>
                <a:ea typeface="MD이솝체"/>
              </a:rPr>
              <a:t>Write or draw about the wolf that you know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0:20Z</dcterms:created>
  <dc:creator>mj</dc:creator>
  <dc:description/>
  <dc:language>en-US</dc:language>
  <cp:lastModifiedBy>mj</cp:lastModifiedBy>
  <dcterms:modified xsi:type="dcterms:W3CDTF">2008-02-21T15:28:05Z</dcterms:modified>
  <cp:revision>8</cp:revision>
  <dc:subject/>
  <dc:title>슬라이드 1</dc:title>
</cp:coreProperties>
</file>