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BA3-99C4-41B2-A6FA-A248F6F2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F57-39CA-4427-9302-4DFC49FC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450-EC63-4D84-BEA7-A0D412A4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D79-489A-4E04-B8F2-57628CAA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86D-4B54-4043-AA55-EC6D49FA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8064-0338-4BC9-AC5E-1235804C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4B7-0B8E-4C9A-9BB5-A788F708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856-2CA7-4303-A184-56BA4796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370-4B9D-4DD9-8358-6D0286FF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1F2-BF52-4882-9F30-9D3CCA40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888-B809-4762-A55E-79F89D29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98B-1ED6-40E9-BB2D-7332C663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D077-5CC4-4339-AA91-3CF24E42FCF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30120" y="18900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D이솝체"/>
                <a:ea typeface="MD이솝체"/>
              </a:rPr>
              <a:t>/g/ at the Beginn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936720" cy="928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67640" y="1557360"/>
            <a:ext cx="85716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667640" y="4076640"/>
            <a:ext cx="915840" cy="576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1127160" cy="1081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39640" y="3933720"/>
            <a:ext cx="792360" cy="100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4000" y="170028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1440" y="836640"/>
            <a:ext cx="63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If the picture starts with /g/, circle and write </a:t>
            </a:r>
            <a:r>
              <a:rPr b="1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g</a:t>
            </a: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 on the lin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522936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492280"/>
            <a:ext cx="13888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522936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7451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2492280"/>
            <a:ext cx="138924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굴림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003640" y="1700280"/>
            <a:ext cx="1140120" cy="723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2771640" y="4005360"/>
            <a:ext cx="1079640" cy="912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33440" y="6491160"/>
            <a:ext cx="51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MD이솝체"/>
                <a:ea typeface="MD이솝체"/>
              </a:rPr>
              <a:t>(gate, glue, zebra, goat, goose, kite, girl, gu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66690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1484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35:33Z</dcterms:created>
  <dc:creator>mj</dc:creator>
  <dc:description/>
  <dc:language>en-US</dc:language>
  <cp:lastModifiedBy>mj</cp:lastModifiedBy>
  <dcterms:modified xsi:type="dcterms:W3CDTF">2008-02-21T15:40:01Z</dcterms:modified>
  <cp:revision>9</cp:revision>
  <dc:subject/>
  <dc:title>슬라이드 1</dc:title>
</cp:coreProperties>
</file>