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0DA4-F5AC-479B-BDE2-C847BC75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1A06-9C59-41ED-A92A-714F4399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6FAC-3875-45D5-BE6B-67580369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E063-0A19-4AD4-BCAB-13A722B2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7BC1-FF95-47B0-9E97-D665E591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95AF-C59A-4B82-8468-B309CAFC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7A1B-FCBB-4EAE-8293-2C1BF980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3F23-B4FF-4847-A4A6-1D7FC6AD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F0A8-FA90-45B6-837D-F2EA3280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1198-003D-4ADE-9871-F6192C69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D80F-5F46-4AF1-AE4E-F6FEA3E1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A9F-024C-41C9-9A84-ECC081B1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1672-EF35-4831-A35A-6ADA919D42B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7360" y="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2800"/>
                </a:solidFill>
                <a:latin typeface="MD이솝체"/>
                <a:ea typeface="MD이솝체"/>
              </a:rPr>
              <a:t>Wolf That I Kno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51280" y="3284640"/>
            <a:ext cx="1413000" cy="1382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27640" y="2205000"/>
            <a:ext cx="2521080" cy="178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619280" y="4581360"/>
            <a:ext cx="2521080" cy="1787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95280" y="2205000"/>
            <a:ext cx="2521080" cy="1787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003640" y="4581360"/>
            <a:ext cx="2521080" cy="1787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276720" y="907920"/>
            <a:ext cx="2520720" cy="1787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59280" y="3357720"/>
            <a:ext cx="720720" cy="21564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781360"/>
            <a:ext cx="1440" cy="43164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364000" y="3357720"/>
            <a:ext cx="720720" cy="21564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132000" y="4292640"/>
            <a:ext cx="648000" cy="21600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4292640"/>
            <a:ext cx="719280" cy="21600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7308720" y="6643800"/>
            <a:ext cx="19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502800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378360" y="476280"/>
            <a:ext cx="492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02800"/>
                </a:solidFill>
                <a:latin typeface="MD이솝체"/>
                <a:ea typeface="MD이솝체"/>
              </a:rPr>
              <a:t>Write or draw about the wolf that you know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5:00:20Z</dcterms:created>
  <dc:creator>mj</dc:creator>
  <dc:description/>
  <dc:language>en-US</dc:language>
  <cp:lastModifiedBy>mj</cp:lastModifiedBy>
  <dcterms:modified xsi:type="dcterms:W3CDTF">2008-02-21T15:28:05Z</dcterms:modified>
  <cp:revision>8</cp:revision>
  <dc:subject/>
  <dc:title>슬라이드 1</dc:title>
</cp:coreProperties>
</file>