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E4A-C20E-48EC-8D63-FC457F51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1B9-062A-4D4A-A34D-E134A8EC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EB5-E5DE-45C7-BAA0-2F2BEB75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B50-7E55-4DC7-8B3C-1A60E929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62CB-CDE4-47C7-B195-BCA6C40D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442-4C77-4E94-9F70-5F1F5D40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677-92FB-43F0-ABF7-ACC5CB61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808-8716-4BE8-9D76-5B48E38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934-7DB4-437B-9C96-407D03F8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458-91F3-4EBC-AA71-920964DC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A53-0C16-4631-852F-B18129D1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900-77FD-4ACE-BD0E-94C633C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3A44-B18B-4E26-A15B-39B45081998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486900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450864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95008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58972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486900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2936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22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22936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5229360" y="270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229360" y="234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29360" y="197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161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5229360" y="12589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637000" y="-23760"/>
            <a:ext cx="158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</a:rPr>
              <a:t>Puzzle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59280" y="539640"/>
            <a:ext cx="622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굴림"/>
              </a:rPr>
              <a:t>Use the words in the box to finish this crossword puzz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450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50072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06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78000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30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06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78936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414972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508640" y="341964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86900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234936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70828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306864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450864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4149720" y="414036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78936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70828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4149720" y="4859280"/>
            <a:ext cx="360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404640" y="1258920"/>
            <a:ext cx="1511640" cy="396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28840" y="1476360"/>
            <a:ext cx="1325160" cy="375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ur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friendl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arm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chee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ars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굴림"/>
              </a:rPr>
              <a:t>hopefu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65360" y="1476360"/>
            <a:ext cx="1150920" cy="1127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231160" y="90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4151880" y="161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431160" y="270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2762640" y="3425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991160" y="4140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351520" y="485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240" y="5457960"/>
            <a:ext cx="5934240" cy="34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Tips</a:t>
            </a: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1. kind: behaving as a frie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3e1f00"/>
              </a:buClr>
              <a:buFont typeface="MD이솝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2. made of, covered with, or like fu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3. low, rough, or harsh in soun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4. feeling or showing hop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5. very pleasing, delight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1f00"/>
                </a:solidFill>
                <a:latin typeface="MD이솝체"/>
                <a:ea typeface="MD이솝체"/>
              </a:rPr>
              <a:t>6. bright and cheerfu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14440" y="8929800"/>
            <a:ext cx="18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99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3:43:33Z</dcterms:created>
  <dc:creator>mj</dc:creator>
  <dc:description/>
  <dc:language>en-US</dc:language>
  <cp:lastModifiedBy>mj</cp:lastModifiedBy>
  <dcterms:modified xsi:type="dcterms:W3CDTF">2008-02-21T14:57:46Z</dcterms:modified>
  <cp:revision>12</cp:revision>
  <dc:subject/>
  <dc:title>슬라이드 1</dc:title>
</cp:coreProperties>
</file>