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74D8-1782-487C-BB7A-FF2C94011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7733-9BDC-4736-9CFB-81AF0D06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4CBA-9BA2-49B4-8882-C80A724E1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2482-A584-429B-9FE3-478A74DBE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D4F8-FF00-4E34-AFBF-A3A33AC7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5C8C-7FC6-4C0A-B39D-88DF6A54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D2C6-1540-4756-ABBF-F18EABF2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C85C-3794-46B3-BC9E-919FBA0D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04C2-8D90-4251-AC17-8EE6F2A7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BD61-4088-443B-B8CB-C10C3A6C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38F8-846A-426F-B8D5-87715275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CB40-4F7C-4C53-8D48-3B6E0AE1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813B-FD23-4EC5-9A96-DF0844A84C3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0120" y="189000"/>
            <a:ext cx="30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MD이솝체"/>
                <a:ea typeface="MD이솝체"/>
              </a:rPr>
              <a:t>/g/ at the Beginn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43280" y="1557360"/>
            <a:ext cx="936720" cy="928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667640" y="1557360"/>
            <a:ext cx="857160" cy="863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667640" y="4076640"/>
            <a:ext cx="915840" cy="576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148360" y="3860640"/>
            <a:ext cx="1127160" cy="1081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39640" y="3933720"/>
            <a:ext cx="792360" cy="100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324000" y="170028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41440" y="836640"/>
            <a:ext cx="635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MD이솝체"/>
                <a:ea typeface="MD이솝체"/>
              </a:rPr>
              <a:t>If the picture starts with /g/, circle and write </a:t>
            </a:r>
            <a:r>
              <a:rPr b="1" lang="en-US" sz="1800" spc="-1" strike="noStrike">
                <a:solidFill>
                  <a:srgbClr val="000099"/>
                </a:solidFill>
                <a:latin typeface="MD이솝체"/>
                <a:ea typeface="MD이솝체"/>
              </a:rPr>
              <a:t>g</a:t>
            </a:r>
            <a:r>
              <a:rPr b="0" lang="en-US" sz="1800" spc="-1" strike="noStrike">
                <a:solidFill>
                  <a:srgbClr val="000099"/>
                </a:solidFill>
                <a:latin typeface="MD이솝체"/>
                <a:ea typeface="MD이솝체"/>
              </a:rPr>
              <a:t> on the line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5229360"/>
            <a:ext cx="138888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2627280" y="2492280"/>
            <a:ext cx="13892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2492280"/>
            <a:ext cx="138888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7451640" y="5229360"/>
            <a:ext cx="13892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5229360"/>
            <a:ext cx="13892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2627280" y="5229360"/>
            <a:ext cx="13892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7451640" y="2492280"/>
            <a:ext cx="13892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2492280"/>
            <a:ext cx="13892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5003640" y="1700280"/>
            <a:ext cx="1140120" cy="723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2771640" y="4005360"/>
            <a:ext cx="1079640" cy="912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33440" y="6491160"/>
            <a:ext cx="51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MD이솝체"/>
                <a:ea typeface="MD이솝체"/>
              </a:rPr>
              <a:t>(gate, glue, zebra, goat, goose, kite, girl, gu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7164360" y="6669000"/>
            <a:ext cx="19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99"/>
                </a:solidFill>
                <a:latin typeface="굴림"/>
              </a:rPr>
              <a:t>OTH-goawaymrwolf@jybooks.co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2916360" y="148428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4:35:33Z</dcterms:created>
  <dc:creator>mj</dc:creator>
  <dc:description/>
  <dc:language>en-US</dc:language>
  <cp:lastModifiedBy>mj</cp:lastModifiedBy>
  <dcterms:modified xsi:type="dcterms:W3CDTF">2008-02-21T15:40:01Z</dcterms:modified>
  <cp:revision>9</cp:revision>
  <dc:subject/>
  <dc:title>슬라이드 1</dc:title>
</cp:coreProperties>
</file>