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1EA-3FAC-47FA-8D1F-4A3BFAFB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3E6-CCEE-48B6-B233-7EC8A89A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A3C-9C1B-4467-9397-2FA83113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7B5-DA96-45AE-8E77-2997F910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DB3-CB23-43EC-937A-AD423995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30F-8D77-4E9C-BD5A-52E9ADB6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E17-0FB6-4C97-B189-AD1CDE16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B8B-6CEA-4B98-BDFD-BC77D999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4E9-BCD4-4197-B23A-1C6E9D84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6C9-3027-4EEB-BF48-AC66BF7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C70-0F35-4AB0-AC19-3291C09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B55-BD97-4B13-9813-9066D16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1EF3-C466-4BE5-BA20-5AB003B8E6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948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159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Make a New En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Draw a picture and write your new s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268280"/>
            <a:ext cx="417672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36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Who’s that knocking at our little front door?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5120" y="5516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Anybody home?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136692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6:40:03Z</dcterms:created>
  <dc:creator>윤홍원</dc:creator>
  <dc:description/>
  <dc:language>en-US</dc:language>
  <cp:lastModifiedBy>윤홍원</cp:lastModifiedBy>
  <dcterms:modified xsi:type="dcterms:W3CDTF">2008-02-22T12:22:43Z</dcterms:modified>
  <cp:revision>5</cp:revision>
  <dc:subject/>
  <dc:title>슬라이드 1</dc:title>
</cp:coreProperties>
</file>