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B57-5592-4A99-9460-EE67F7C7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D88-5679-4F6F-978C-48854B89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68E-BAFA-485B-BF9D-11D893D2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A0F-A534-4F90-8FD8-C5FE5D34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1AA-B6C9-45E0-AFE5-B00F2FF2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9CB-3986-45D9-A08A-293DBB5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C1C-CEA9-4845-A2D2-863C8E58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DA1-4D70-41EC-A08D-F3D6FB07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2BC-9944-41D2-AC34-8AE3F6B2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E33-0A8D-4C91-BBB4-DA67FBD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56D-9EDB-4BBD-8901-4FE456A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0A3-8582-4532-8584-EA14ED1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AFB4-7C71-4BDC-B1F8-F81C8CD2E2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0120" y="1890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D이솝체"/>
                <a:ea typeface="MD이솝체"/>
              </a:rPr>
              <a:t>/g/ at the 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67640" y="4076640"/>
            <a:ext cx="915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112716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4000" y="170028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1440" y="836640"/>
            <a:ext cx="63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If the picture starts with /g/, circle and write </a:t>
            </a:r>
            <a:r>
              <a:rPr b="1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g</a:t>
            </a: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 on the lin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22936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1700280"/>
            <a:ext cx="114012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771640" y="4005360"/>
            <a:ext cx="107964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3440" y="649116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(gate, glue, zebra, goat, goose, kite, girl, gu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1484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35:33Z</dcterms:created>
  <dc:creator>mj</dc:creator>
  <dc:description/>
  <dc:language>en-US</dc:language>
  <cp:lastModifiedBy>mj</cp:lastModifiedBy>
  <dcterms:modified xsi:type="dcterms:W3CDTF">2008-02-21T15:40:01Z</dcterms:modified>
  <cp:revision>9</cp:revision>
  <dc:subject/>
  <dc:title>슬라이드 1</dc:title>
</cp:coreProperties>
</file>