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F9E-DFE4-4851-8220-677CCD29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D19-ED08-4FB7-9881-1645080C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E96-D9BB-4BE8-8888-C9AB3866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C8A-61DC-4653-AC18-654A73FA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BDE-BA3C-424A-A267-F5FFF66B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CC0-17A2-4665-B55A-AA0E68E1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129-9779-4C13-9171-1E72D87A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10E-6FF3-4680-97B6-CB7884CD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6EA-915A-43AE-A1F8-501D3F5D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DDB-F806-4D67-8595-51DDABD8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99B-FF87-4C7D-809F-B21DE260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56A-7CAD-449F-B522-F954FDF1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6C93-6C12-4A3C-B43F-53A778B4E33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557360"/>
            <a:ext cx="2808360" cy="4751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484280"/>
            <a:ext cx="266400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1484280"/>
            <a:ext cx="262872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88080" y="1989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719520" y="1989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198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0"/>
            <a:ext cx="734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MD개성체"/>
                <a:ea typeface="MD개성체"/>
              </a:rPr>
              <a:t>The Old Allig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hat happens in the story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rite or draw about the beginning, middle and end of the story</a:t>
            </a:r>
            <a:r>
              <a:rPr b="0" lang="en-US" sz="1800" spc="-1" strike="noStrike">
                <a:solidFill>
                  <a:srgbClr val="000000"/>
                </a:solidFill>
                <a:latin typeface="MD개성체"/>
                <a:ea typeface="MD개성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7300440" y="6643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22:11Z</dcterms:created>
  <dc:creator>mj</dc:creator>
  <dc:description/>
  <dc:language>en-US</dc:language>
  <cp:lastModifiedBy>mj</cp:lastModifiedBy>
  <dcterms:modified xsi:type="dcterms:W3CDTF">2008-02-21T14:57:04Z</dcterms:modified>
  <cp:revision>6</cp:revision>
  <dc:subject/>
  <dc:title>슬라이드 1</dc:title>
</cp:coreProperties>
</file>