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9D2C-B283-4B8E-91FD-A5D830A9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128-E7D3-49A5-AE29-5864710B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DC42-4C6C-4811-8962-40E323D0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73C-5358-4ECE-9C81-90D786B2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AB70-2A35-46AB-A803-94B480DC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7D6E-5080-43B9-B3BD-B0645690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264C-4ED5-4410-8B41-B4A7CC70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AA9-340A-4C6D-A389-86E76344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3ED-AB32-45E7-B89F-08623904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065A-3300-414E-8CDF-F36D1717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E7DF-C0A2-40AF-9F41-58F35995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187-F822-474A-B4E8-641622E3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02D9-8511-4BC0-B12C-6C975B39C9E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8936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486900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450864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95008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58972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486900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29360" y="3780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22936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5229360" y="30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5229360" y="270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229360" y="2340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5229360" y="197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22936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5229360" y="12589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637000" y="-23760"/>
            <a:ext cx="158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굴림"/>
              </a:rPr>
              <a:t>Puzzle Tim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359280" y="539640"/>
            <a:ext cx="62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"/>
              </a:rPr>
              <a:t>Use the words in the box to finish this crossword puzzl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450864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45007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06864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3780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0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06864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78936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414972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450864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86900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234936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70828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306864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450864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414972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78936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70828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414972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404640" y="1258920"/>
            <a:ext cx="1511640" cy="39607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28840" y="1476360"/>
            <a:ext cx="1325160" cy="375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furr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friendl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char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cheer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hoar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hopefu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65360" y="1476360"/>
            <a:ext cx="1150920" cy="1127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231160" y="900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4151880" y="161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3431160" y="2700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2762640" y="3425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991160" y="4140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23515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240" y="5457960"/>
            <a:ext cx="5934240" cy="34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Tips</a:t>
            </a: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1. kind: behaving as a frie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3e1f00"/>
              </a:buClr>
              <a:buFont typeface="MD이솝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2. made of, covered with, or like fu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3. low, rough, or harsh in sou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4. feeling or showing hop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5. very pleasing, delightfu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6. bright and cheerfu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14440" y="8929800"/>
            <a:ext cx="183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99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3:43:33Z</dcterms:created>
  <dc:creator>mj</dc:creator>
  <dc:description/>
  <dc:language>en-US</dc:language>
  <cp:lastModifiedBy>mj</cp:lastModifiedBy>
  <dcterms:modified xsi:type="dcterms:W3CDTF">2008-02-21T14:57:46Z</dcterms:modified>
  <cp:revision>12</cp:revision>
  <dc:subject/>
  <dc:title>슬라이드 1</dc:title>
</cp:coreProperties>
</file>