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BA86-1F09-45C4-99CB-AFA84A549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11A7-DB10-44CE-8F6C-0D5D46B6E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B912-BCDE-48DA-86F6-0458E6672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104A-2A78-4202-8797-EFC222E5F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C5E1-6333-48AA-8E91-0484B3616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8412-E254-488F-8743-FEEFC91BE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3686-B36B-4A9C-93F2-18B133DB6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DD94-969C-421D-B02D-9247DACA4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7998-173E-40FF-9134-15E17D7A2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B983-E5B6-4745-9488-9E1B9F7D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EBF0-4341-4332-B68C-E757705C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D2F5-2D4C-427C-BFFC-3F8FCBAA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8DCDF-DF87-4923-84F9-C9D57910339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1557360"/>
            <a:ext cx="2808360" cy="475128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756a75"/>
              </a:gs>
              <a:gs pos="50000">
                <a:srgbClr val="ffe7ff"/>
              </a:gs>
              <a:gs pos="100000">
                <a:srgbClr val="756a75"/>
              </a:gs>
            </a:gsLst>
            <a:lin ang="5400000"/>
          </a:gradFill>
          <a:ln w="9360">
            <a:solidFill>
              <a:srgbClr val="500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3348000" y="1484280"/>
            <a:ext cx="2664000" cy="482436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756a75"/>
              </a:gs>
              <a:gs pos="50000">
                <a:srgbClr val="ffe7ff"/>
              </a:gs>
              <a:gs pos="100000">
                <a:srgbClr val="756a75"/>
              </a:gs>
            </a:gsLst>
            <a:lin ang="5400000"/>
          </a:gradFill>
          <a:ln w="9360">
            <a:solidFill>
              <a:srgbClr val="500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6372360" y="1484280"/>
            <a:ext cx="2628720" cy="482436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756a75"/>
              </a:gs>
              <a:gs pos="50000">
                <a:srgbClr val="ffe7ff"/>
              </a:gs>
              <a:gs pos="100000">
                <a:srgbClr val="756a75"/>
              </a:gs>
            </a:gsLst>
            <a:lin ang="5400000"/>
          </a:gradFill>
          <a:ln w="9360">
            <a:solidFill>
              <a:srgbClr val="500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388080" y="1989000"/>
            <a:ext cx="16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MD개성체"/>
                <a:ea typeface="MD개성체"/>
              </a:rPr>
              <a:t>Beginn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3719520" y="19890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MD개성체"/>
                <a:ea typeface="MD개성체"/>
              </a:rPr>
              <a:t>Middl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7164360" y="198900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MD개성체"/>
                <a:ea typeface="MD개성체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0"/>
            <a:ext cx="73454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MD개성체"/>
                <a:ea typeface="MD개성체"/>
              </a:rPr>
              <a:t>The Old Alligator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MD개성체"/>
                <a:ea typeface="MD개성체"/>
              </a:rPr>
              <a:t>What happens in the story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MD개성체"/>
                <a:ea typeface="MD개성체"/>
              </a:rPr>
              <a:t>Write or draw about the beginning, middle and end of the story</a:t>
            </a:r>
            <a:r>
              <a:rPr b="0" lang="en-US" sz="1800" spc="-1" strike="noStrike">
                <a:solidFill>
                  <a:srgbClr val="000000"/>
                </a:solidFill>
                <a:latin typeface="MD개성체"/>
                <a:ea typeface="MD개성체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7300440" y="6643800"/>
            <a:ext cx="183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333399"/>
                </a:solidFill>
                <a:latin typeface="굴림"/>
              </a:rPr>
              <a:t>OTH-goawaymrwolf@jybooks.com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5:22:11Z</dcterms:created>
  <dc:creator>mj</dc:creator>
  <dc:description/>
  <dc:language>en-US</dc:language>
  <cp:lastModifiedBy>mj</cp:lastModifiedBy>
  <dcterms:modified xsi:type="dcterms:W3CDTF">2008-02-21T14:57:04Z</dcterms:modified>
  <cp:revision>6</cp:revision>
  <dc:subject/>
  <dc:title>슬라이드 1</dc:title>
</cp:coreProperties>
</file>