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8B6-9BD0-4A63-88AA-BC1A3E00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488-56B5-49E9-BDDC-6DD1516B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868-CAD2-46AA-9452-1BAB4E17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6E3-9F9C-4E9A-B850-0A6A7CD6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2F0-2E57-4EB8-BA9C-983A94AF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946-C0C2-46DC-8695-87AB8890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328-BA47-4861-AB98-F3B4E47B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489-5AB2-4E38-986A-F0896E3F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B9D-58E1-4392-885E-11AC99E4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3BD-FC47-48DD-B07A-F2454B33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19A0-019B-4106-9463-AF7F6542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84B-07E9-43F3-943D-5DC46EB5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2D60-6BCF-414A-A5C4-3D3333C0A35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1557360"/>
            <a:ext cx="2808360" cy="47512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3348000" y="1484280"/>
            <a:ext cx="2664000" cy="48243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6372360" y="1484280"/>
            <a:ext cx="2628720" cy="482436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6a75"/>
              </a:gs>
              <a:gs pos="50000">
                <a:srgbClr val="ffe7ff"/>
              </a:gs>
              <a:gs pos="100000">
                <a:srgbClr val="756a75"/>
              </a:gs>
            </a:gsLst>
            <a:lin ang="5400000"/>
          </a:gradFill>
          <a:ln w="9360">
            <a:solidFill>
              <a:srgbClr val="5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88080" y="198900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719520" y="19890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7164360" y="198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MD개성체"/>
                <a:ea typeface="MD개성체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0"/>
            <a:ext cx="7345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MD개성체"/>
                <a:ea typeface="MD개성체"/>
              </a:rPr>
              <a:t>The Old Alligato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개성체"/>
                <a:ea typeface="MD개성체"/>
              </a:rPr>
              <a:t>What happens in the story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개성체"/>
                <a:ea typeface="MD개성체"/>
              </a:rPr>
              <a:t>Write or draw about the beginning, middle and end of the story</a:t>
            </a:r>
            <a:r>
              <a:rPr b="0" lang="en-US" sz="1800" spc="-1" strike="noStrike">
                <a:solidFill>
                  <a:srgbClr val="000000"/>
                </a:solidFill>
                <a:latin typeface="MD개성체"/>
                <a:ea typeface="MD개성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7300440" y="6643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5:22:11Z</dcterms:created>
  <dc:creator>mj</dc:creator>
  <dc:description/>
  <dc:language>en-US</dc:language>
  <cp:lastModifiedBy>mj</cp:lastModifiedBy>
  <dcterms:modified xsi:type="dcterms:W3CDTF">2008-02-21T14:57:04Z</dcterms:modified>
  <cp:revision>6</cp:revision>
  <dc:subject/>
  <dc:title>슬라이드 1</dc:title>
</cp:coreProperties>
</file>