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D2B-DF18-4491-B62D-6535E1BD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179-0AE3-4792-9965-FA5FF485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9BE8-332F-48CE-ABFA-76CE8E5B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307-5696-4731-B0FD-E8D565A7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C1A-C34F-461A-9DD7-3DDE563E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87F-658B-4B91-BCA8-868314DE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8E2-9328-4378-8A85-02D134B7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2E5-19B2-4341-88DA-876AD0D7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AF3-E899-4BDD-B915-C289691E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4B0-CAA6-4E90-BA9C-1BFAE391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20C1-5A7B-4F67-8653-3F2E548B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B57-BF44-49AD-AD4B-E52AE110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EE12-DF2F-44F0-A350-EC7B0375717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557360"/>
            <a:ext cx="2808360" cy="47512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3348000" y="1484280"/>
            <a:ext cx="2664000" cy="48243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6372360" y="1484280"/>
            <a:ext cx="2628720" cy="48243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88080" y="198900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719520" y="1989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7164360" y="198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0"/>
            <a:ext cx="7345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MD개성체"/>
                <a:ea typeface="MD개성체"/>
              </a:rPr>
              <a:t>The Old Alligato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개성체"/>
                <a:ea typeface="MD개성체"/>
              </a:rPr>
              <a:t>What happens in the story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개성체"/>
                <a:ea typeface="MD개성체"/>
              </a:rPr>
              <a:t>Write or draw about the beginning, middle and end of the story</a:t>
            </a:r>
            <a:r>
              <a:rPr b="0" lang="en-US" sz="1800" spc="-1" strike="noStrike">
                <a:solidFill>
                  <a:srgbClr val="000000"/>
                </a:solidFill>
                <a:latin typeface="MD개성체"/>
                <a:ea typeface="MD개성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7300440" y="6643800"/>
            <a:ext cx="183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5:22:11Z</dcterms:created>
  <dc:creator>mj</dc:creator>
  <dc:description/>
  <dc:language>en-US</dc:language>
  <cp:lastModifiedBy>mj</cp:lastModifiedBy>
  <dcterms:modified xsi:type="dcterms:W3CDTF">2008-02-21T14:57:04Z</dcterms:modified>
  <cp:revision>6</cp:revision>
  <dc:subject/>
  <dc:title>슬라이드 1</dc:title>
</cp:coreProperties>
</file>