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3B1-D6D3-424F-82D2-1399EA9D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92E-2C07-487B-A49B-BAAEED9A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327-D2AC-4B38-8AD3-76071DDA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A01-230A-40F4-95E5-F75F079D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27D-7226-42FB-9950-163BF781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966-7AC1-4301-8854-F15CAEEA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C1B-B585-445B-AB8C-231F1045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BC1-2E7F-48FE-B4AD-FC4A1C77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4EC-B5E0-4154-A8D9-FB867A77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915-3DD7-496A-9A18-69937A06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44A-70D6-4118-A6C7-E575FB87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0F3-0645-419F-83EA-FE60700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9244-B33C-422E-BBBF-84C20F7423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0120" y="1890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D이솝체"/>
                <a:ea typeface="MD이솝체"/>
              </a:rPr>
              <a:t>/g/ at the 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67640" y="4076640"/>
            <a:ext cx="915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112716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4000" y="170028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1440" y="836640"/>
            <a:ext cx="63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If the picture starts with /g/, circle and write </a:t>
            </a:r>
            <a:r>
              <a:rPr b="1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g</a:t>
            </a: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 on the lin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22936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1700280"/>
            <a:ext cx="114012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771640" y="4005360"/>
            <a:ext cx="107964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3440" y="649116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(gate, glue, zebra, goat, goose, kite, girl, gu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1484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35:33Z</dcterms:created>
  <dc:creator>mj</dc:creator>
  <dc:description/>
  <dc:language>en-US</dc:language>
  <cp:lastModifiedBy>mj</cp:lastModifiedBy>
  <dcterms:modified xsi:type="dcterms:W3CDTF">2008-02-21T15:40:01Z</dcterms:modified>
  <cp:revision>9</cp:revision>
  <dc:subject/>
  <dc:title>슬라이드 1</dc:title>
</cp:coreProperties>
</file>